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280-6F74-4BCC-A2E1-9BE609AA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A13-617C-4FAE-BF8F-28594AB8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284-FCB5-4C44-BA32-58E73DF7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4B1-9E1D-48D8-9526-8F7490BA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5FC-F222-4BAE-B390-80E5A39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162-6EDB-46CD-B7F5-834EF7B7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FF9-E93F-46D1-B11E-DCA76B7D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157-13AA-4439-A425-37783BC4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F6F-C483-4333-A494-AF3317B0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101-ECDF-4580-86F7-273C581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F49-B3B3-4F46-8DA8-CE24046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8D4-317C-4ECA-AC93-D5E459B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25F-FDEC-48C5-91E5-991A580E5013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HE_RD_ES Know How Ramp up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Minion"/>
              </a:rPr>
              <a:t>PHE RD </a:t>
            </a: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ES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1, 2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DD1-2790-4411-81D1-886D6E7444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Munich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30592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Munich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as replacement of 2 key external engineers, who are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n/Solaris/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1 external enginee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ser Hotline Management and VIP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EA2-825C-40BE-9396-1F2521D55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-sourcing of key Know How at PHE RD ES Klf: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843912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Engineering service Klf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1 additional headcount as replacement of 1 key external engineer, who is not willing to change to BenQ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nix/Linux and data mgmt. for config. mgmt. system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: replacement and know how transfer finished June 06 (best case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   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for know how transfer overlap of up to 3 mont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In-sourcing of 2 external engineer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indows OS/Active Directory/Novell/</a:t>
            </a:r>
            <a:r>
              <a:rPr b="0" lang="de-DE" sz="2000" spc="-1" strike="noStrike">
                <a:solidFill>
                  <a:srgbClr val="3a0e66"/>
                </a:solidFill>
                <a:latin typeface="Minion"/>
              </a:rPr>
              <a:t>Scripting/Backup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April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F94-918A-4544-B1D3-E3BA3D0F4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Configuration managemen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3 additional headcount in Munich / Kamp-Lintfor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scripting architectu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and alignment with sites and projec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ripting, tests, administration, 2nd level support, license mgmt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71B-F9E7-4434-8778-C64EDE6F0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3059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Requirements engineering (Doors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only 1 headcount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7 External, thereof 2 from PBM supporting Key Know How (see below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2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, tool design,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9F0-764D-419E-811C-1F1C23D64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Project planning (Primavera)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cided to be integrated in 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ransfer from Aal to Munich necessa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tatus today: 6 engineers in Aal, thereof 2 plann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4 additional headcount in Munich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ethodology, concepts, strateg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ports and Controlling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aching / train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ool administration, hotline, 2nd and 3rd level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rget ramp up finished: July 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450-9880-4E31-B021-FA2919356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 H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055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Further tools to be decided how to handl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troduction of Testdirecto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hange Request ligh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lear Ques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y need additional Know How ramp up in R&amp;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3E9-96B6-48B5-8D55-07DD76C13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amp up of Key Know How at PHE RD ES: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64676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a0e66"/>
                </a:solidFill>
                <a:uFillTx/>
                <a:latin typeface="Minion"/>
              </a:rPr>
              <a:t>Summarization of targets for headcount increase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2565360"/>
          <a:ext cx="8218440" cy="2524320"/>
        </p:xfrm>
        <a:graphic>
          <a:graphicData uri="http://schemas.openxmlformats.org/drawingml/2006/table">
            <a:tbl>
              <a:tblPr/>
              <a:tblGrid>
                <a:gridCol w="1044360"/>
                <a:gridCol w="1198800"/>
                <a:gridCol w="853920"/>
                <a:gridCol w="852480"/>
                <a:gridCol w="854280"/>
                <a:gridCol w="853920"/>
                <a:gridCol w="854280"/>
                <a:gridCol w="852480"/>
                <a:gridCol w="8539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rz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pr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ai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n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l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Aug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ep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M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Kl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onf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q. Mgm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ES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rima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DBE-50CD-4572-A973-5173A0FE66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1-30T09:14:37Z</dcterms:modified>
  <cp:revision>125</cp:revision>
  <dc:subject/>
  <dc:title>PowerPoint 簡報</dc:title>
</cp:coreProperties>
</file>